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E19-C1DE-4CD5-97FF-7BC35925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5211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F30-9FDE-4563-A882-D5362B55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28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93B-D09C-4A5F-96CA-4ACCFE12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6708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7696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6708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7696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45C-BF3A-4F68-96FB-C704AC85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FB9A-CE42-40BA-8A66-219685EE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D6C4-FF81-4983-A50D-4BD1660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30CB-5840-40B2-B219-531D21CC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6361-1D30-4677-B610-047C451C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3FE8-56A6-48CA-855E-4DE3976C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5800" y="304920"/>
            <a:ext cx="60116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6E9F-7117-437F-94B9-B2ADE5DA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2490-D4DE-4C71-B928-E054FAE9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EE0-8CEC-4125-B6D1-A000D803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028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9205-FAFD-4B63-99CC-B2F51D28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686B-A435-4D2E-B8A1-7289DC2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5211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13DD-731D-47EC-B2D2-E7F7A4F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5028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FAAE-C996-4D30-94F6-FF822093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46708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47696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46708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47696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84CA-ECFA-4482-B1A8-7684C998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FE9-D725-468F-9A87-07E4A34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347-8B79-4BF4-9A47-B0D4EE26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85D-115A-4495-8C59-B7838DA5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800" y="304920"/>
            <a:ext cx="60116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680-A9FD-4B83-9B1F-CCCBB69F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BC5-9A10-46B7-A054-2FD5D9B1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28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03A-9F67-412A-B342-36D83252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E51-68B9-412C-A92D-9769334C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03040"/>
            <a:ext cx="6514920" cy="8127360"/>
            <a:chOff x="0" y="203040"/>
            <a:chExt cx="6514920" cy="8127360"/>
          </a:xfrm>
        </p:grpSpPr>
        <p:sp>
          <p:nvSpPr>
            <p:cNvPr id="1" name="AutoShape 3"/>
            <p:cNvSpPr/>
            <p:nvPr/>
          </p:nvSpPr>
          <p:spPr>
            <a:xfrm>
              <a:off x="285480" y="711000"/>
              <a:ext cx="6229440" cy="7619400"/>
            </a:xfrm>
            <a:custGeom>
              <a:avLst/>
              <a:gdLst>
                <a:gd name="textAreaLeft" fmla="*/ 250200 w 6229440"/>
                <a:gd name="textAreaRight" fmla="*/ 5979240 w 6229440"/>
                <a:gd name="textAreaTop" fmla="*/ 250200 h 7619400"/>
                <a:gd name="textAreaBottom" fmla="*/ 7369200 h 7619400"/>
              </a:gdLst>
              <a:ahLst/>
              <a:rect l="textAreaLeft" t="textAreaTop" r="textAreaRight" b="textAreaBottom"/>
              <a:pathLst>
                <a:path w="21600" h="26419">
                  <a:moveTo>
                    <a:pt x="2965" y="0"/>
                  </a:moveTo>
                  <a:arcTo wR="2965" hR="2965" stAng="16200000" swAng="-5400000"/>
                  <a:lnTo>
                    <a:pt x="0" y="23454"/>
                  </a:lnTo>
                  <a:arcTo wR="2965" hR="2965" stAng="10800000" swAng="-5400000"/>
                  <a:lnTo>
                    <a:pt x="18635" y="2641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203040"/>
              <a:ext cx="6400800" cy="1625400"/>
            </a:xfrm>
            <a:custGeom>
              <a:avLst/>
              <a:gdLst>
                <a:gd name="textAreaLeft" fmla="*/ 0 w 6400800"/>
                <a:gd name="textAreaRight" fmla="*/ 3200400 w 640080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3438" y="0"/>
                  </a:lnTo>
                  <a:cubicBezTo>
                    <a:pt x="3714" y="0"/>
                    <a:pt x="3938" y="223"/>
                    <a:pt x="3938" y="500"/>
                  </a:cubicBezTo>
                  <a:cubicBezTo>
                    <a:pt x="3938" y="776"/>
                    <a:pt x="3714" y="999"/>
                    <a:pt x="3438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625400"/>
              <a:ext cx="605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7FC0-AA37-4B8B-9E85-BD2C73D7D6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236600"/>
            <a:ext cx="6743880" cy="5993640"/>
            <a:chOff x="0" y="1236600"/>
            <a:chExt cx="6743880" cy="5993640"/>
          </a:xfrm>
        </p:grpSpPr>
        <p:sp>
          <p:nvSpPr>
            <p:cNvPr id="46" name="AutoShape 3"/>
            <p:cNvSpPr/>
            <p:nvPr/>
          </p:nvSpPr>
          <p:spPr>
            <a:xfrm>
              <a:off x="514080" y="2760120"/>
              <a:ext cx="5543640" cy="447012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171360" y="1236600"/>
              <a:ext cx="5372280" cy="1320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846080"/>
              <a:ext cx="6743880" cy="2437920"/>
            </a:xfrm>
            <a:custGeom>
              <a:avLst/>
              <a:gdLst>
                <a:gd name="textAreaLeft" fmla="*/ 0 w 6743880"/>
                <a:gd name="textAreaRight" fmla="*/ 3372480 w 674388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2266" y="0"/>
                  </a:lnTo>
                  <a:cubicBezTo>
                    <a:pt x="2542" y="0"/>
                    <a:pt x="2766" y="223"/>
                    <a:pt x="2766" y="500"/>
                  </a:cubicBezTo>
                  <a:cubicBezTo>
                    <a:pt x="2766" y="776"/>
                    <a:pt x="2542" y="999"/>
                    <a:pt x="2266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4081320"/>
              <a:ext cx="62294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43240" y="833724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5A69-09C6-47DA-950B-E0CF950E0E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284760"/>
            <a:ext cx="3573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УВАЖАЕМЫЕ ЖИТЕЛИ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расносельского район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60280" y="1476360"/>
            <a:ext cx="6264360" cy="78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 01 апреля  по 30 апреля 2017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нашем городе проводится месячник по уборке и благоустройству улиц,  и дворовых территорий после зимнего  период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йонная администрация совместно с  ГКУ «Жилищное Агентство» Красносельского района  приглашает трудовые коллективы, жителей принять активное участие в работах по наведению чистоты в своих дворах и на  территориях пред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9 апреля 201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стоится День благоустройства , в котором приглашаем принять участие всех желающих. Пусть этот день станет днем всеобщей заботы и любви к нашему Великому городу. В этот день будут организованы работы во дворах, парках и садах, на территориях предприятий, учреждений, учебных заведений. Любой желающий сможет принять  в них участ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дминистрация Красносельского района                             Санкт-Петербургское государственное казенное учреждение «Жилищное агентство Красносельского райо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8:31:55Z</dcterms:created>
  <dc:creator>Иванова Оля</dc:creator>
  <dc:description/>
  <dc:language>en-US</dc:language>
  <cp:lastModifiedBy>Fedotova</cp:lastModifiedBy>
  <cp:lastPrinted>2016-10-13T07:17:59Z</cp:lastPrinted>
  <dcterms:modified xsi:type="dcterms:W3CDTF">2017-04-18T08:53:26Z</dcterms:modified>
  <cp:revision>19</cp:revision>
  <dc:subject/>
  <dc:title>Слайд 1</dc:title>
</cp:coreProperties>
</file>