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85F2-918C-4AB0-AFC6-F309819EC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5800" y="304920"/>
            <a:ext cx="60116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594360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5211360"/>
            <a:ext cx="594360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7D79-C564-4B58-8C7C-930B13322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5800" y="304920"/>
            <a:ext cx="60116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29001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02800" y="2133360"/>
            <a:ext cx="29001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5211360"/>
            <a:ext cx="29001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502800" y="5211360"/>
            <a:ext cx="29001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75DD-92AC-45FA-BFED-621693719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5800" y="304920"/>
            <a:ext cx="60116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19137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467080" y="2133360"/>
            <a:ext cx="19137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476960" y="2133360"/>
            <a:ext cx="19137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5211360"/>
            <a:ext cx="19137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467080" y="5211360"/>
            <a:ext cx="19137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4476960" y="5211360"/>
            <a:ext cx="19137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D6B1-D473-4AD8-B9EA-950793598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4561A-5734-4ACE-9E21-0F9BDC227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5800" y="304920"/>
            <a:ext cx="60116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2133360"/>
            <a:ext cx="594360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6C596-B531-4D4F-BAD4-6D365369F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5800" y="304920"/>
            <a:ext cx="60116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594360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BE2E2-1EE7-4613-8623-9AF561E1C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5800" y="304920"/>
            <a:ext cx="60116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290016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02800" y="2133360"/>
            <a:ext cx="290016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49C3F-22E8-4756-ADD3-3A575DACB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5800" y="304920"/>
            <a:ext cx="60116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FF5A0-A861-4868-97FF-AACC804DB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45800" y="304920"/>
            <a:ext cx="60116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5E817-4CE2-444B-9FF1-A824ACBD7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5800" y="304920"/>
            <a:ext cx="60116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29001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502800" y="2133360"/>
            <a:ext cx="290016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5211360"/>
            <a:ext cx="29001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9535F-AA07-4901-811A-6D62D6E31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5800" y="304920"/>
            <a:ext cx="60116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2133360"/>
            <a:ext cx="594360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EEA7-E454-43F3-82B9-451F9FAE2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5800" y="304920"/>
            <a:ext cx="60116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290016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2800" y="2133360"/>
            <a:ext cx="29001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502800" y="5211360"/>
            <a:ext cx="29001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8E933-5956-49D4-A9D5-15AF68124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5800" y="304920"/>
            <a:ext cx="60116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29001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2800" y="2133360"/>
            <a:ext cx="29001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5211360"/>
            <a:ext cx="594360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2C2ED-0068-4E33-A372-52D2117E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5800" y="304920"/>
            <a:ext cx="60116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594360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5211360"/>
            <a:ext cx="594360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371F6-CFDC-4A78-A66F-665B83CB2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5800" y="304920"/>
            <a:ext cx="60116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29001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02800" y="2133360"/>
            <a:ext cx="29001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5211360"/>
            <a:ext cx="29001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502800" y="5211360"/>
            <a:ext cx="29001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498FF-6022-4130-9B99-5D1376C77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5800" y="304920"/>
            <a:ext cx="60116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19137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2467080" y="2133360"/>
            <a:ext cx="19137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476960" y="2133360"/>
            <a:ext cx="19137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5211360"/>
            <a:ext cx="19137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2467080" y="5211360"/>
            <a:ext cx="19137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4476960" y="5211360"/>
            <a:ext cx="19137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DAFA9-347A-4F74-B88A-939F61AB1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5800" y="304920"/>
            <a:ext cx="60116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594360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7016-3ED5-40F6-8C60-A78310F9B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5800" y="304920"/>
            <a:ext cx="60116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290016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502800" y="2133360"/>
            <a:ext cx="290016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DA6F-06BD-48E8-BD83-0442FC028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5800" y="304920"/>
            <a:ext cx="60116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2864-43DB-4C66-9636-E382687B4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5800" y="304920"/>
            <a:ext cx="60116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D05D-DC52-4EF5-86A2-DDFE46613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5800" y="304920"/>
            <a:ext cx="60116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29001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2800" y="2133360"/>
            <a:ext cx="290016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5211360"/>
            <a:ext cx="29001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BB26-5C58-4B78-8C83-AC1BE73C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5800" y="304920"/>
            <a:ext cx="60116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290016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2800" y="2133360"/>
            <a:ext cx="29001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502800" y="5211360"/>
            <a:ext cx="29001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1D1D-FB2E-4714-B504-F88F8428A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5800" y="304920"/>
            <a:ext cx="60116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29001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2800" y="2133360"/>
            <a:ext cx="29001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5211360"/>
            <a:ext cx="594360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8156-79EB-4925-AC16-664F2E626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03040"/>
            <a:ext cx="6514920" cy="8127360"/>
            <a:chOff x="0" y="203040"/>
            <a:chExt cx="6514920" cy="8127360"/>
          </a:xfrm>
        </p:grpSpPr>
        <p:sp>
          <p:nvSpPr>
            <p:cNvPr id="1" name="AutoShape 3"/>
            <p:cNvSpPr/>
            <p:nvPr/>
          </p:nvSpPr>
          <p:spPr>
            <a:xfrm>
              <a:off x="285480" y="711000"/>
              <a:ext cx="6229440" cy="7619400"/>
            </a:xfrm>
            <a:custGeom>
              <a:avLst/>
              <a:gdLst>
                <a:gd name="textAreaLeft" fmla="*/ 250200 w 6229440"/>
                <a:gd name="textAreaRight" fmla="*/ 5979240 w 6229440"/>
                <a:gd name="textAreaTop" fmla="*/ 250200 h 7619400"/>
                <a:gd name="textAreaBottom" fmla="*/ 7369200 h 7619400"/>
              </a:gdLst>
              <a:ahLst/>
              <a:rect l="textAreaLeft" t="textAreaTop" r="textAreaRight" b="textAreaBottom"/>
              <a:pathLst>
                <a:path w="21600" h="26419">
                  <a:moveTo>
                    <a:pt x="2965" y="0"/>
                  </a:moveTo>
                  <a:arcTo wR="2965" hR="2965" stAng="16200000" swAng="-5400000"/>
                  <a:lnTo>
                    <a:pt x="0" y="23454"/>
                  </a:lnTo>
                  <a:arcTo wR="2965" hR="2965" stAng="10800000" swAng="-5400000"/>
                  <a:lnTo>
                    <a:pt x="18635" y="26419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203040"/>
              <a:ext cx="6400800" cy="1625400"/>
            </a:xfrm>
            <a:custGeom>
              <a:avLst/>
              <a:gdLst>
                <a:gd name="textAreaLeft" fmla="*/ 0 w 6400800"/>
                <a:gd name="textAreaRight" fmla="*/ 3200400 w 6400800"/>
                <a:gd name="textAreaTop" fmla="*/ 0 h 1625400"/>
                <a:gd name="textAreaBottom" fmla="*/ 1625760 h 162540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3438" y="0"/>
                  </a:lnTo>
                  <a:cubicBezTo>
                    <a:pt x="3714" y="0"/>
                    <a:pt x="3938" y="223"/>
                    <a:pt x="3938" y="500"/>
                  </a:cubicBezTo>
                  <a:cubicBezTo>
                    <a:pt x="3938" y="776"/>
                    <a:pt x="3714" y="999"/>
                    <a:pt x="3438" y="999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625400"/>
              <a:ext cx="60580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5800" y="304920"/>
            <a:ext cx="60116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2133360"/>
            <a:ext cx="594360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42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4914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C7949-8A61-47C3-80EA-D77331A1CD2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1236600"/>
            <a:ext cx="6743880" cy="5993640"/>
            <a:chOff x="0" y="1236600"/>
            <a:chExt cx="6743880" cy="5993640"/>
          </a:xfrm>
        </p:grpSpPr>
        <p:sp>
          <p:nvSpPr>
            <p:cNvPr id="46" name="AutoShape 3"/>
            <p:cNvSpPr/>
            <p:nvPr/>
          </p:nvSpPr>
          <p:spPr>
            <a:xfrm>
              <a:off x="514080" y="2760120"/>
              <a:ext cx="5543640" cy="447012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171360" y="1236600"/>
              <a:ext cx="5372280" cy="132084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846080"/>
              <a:ext cx="6743880" cy="2437920"/>
            </a:xfrm>
            <a:custGeom>
              <a:avLst/>
              <a:gdLst>
                <a:gd name="textAreaLeft" fmla="*/ 0 w 6743880"/>
                <a:gd name="textAreaRight" fmla="*/ 3372480 w 6743880"/>
                <a:gd name="textAreaTop" fmla="*/ 0 h 2437920"/>
                <a:gd name="textAreaBottom" fmla="*/ 2438280 h 243792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2266" y="0"/>
                  </a:lnTo>
                  <a:cubicBezTo>
                    <a:pt x="2542" y="0"/>
                    <a:pt x="2766" y="223"/>
                    <a:pt x="2766" y="500"/>
                  </a:cubicBezTo>
                  <a:cubicBezTo>
                    <a:pt x="2766" y="776"/>
                    <a:pt x="2542" y="999"/>
                    <a:pt x="2266" y="999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4081320"/>
              <a:ext cx="622944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5800" y="304920"/>
            <a:ext cx="60116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2133360"/>
            <a:ext cx="594360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342720" y="8331120"/>
            <a:ext cx="160020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343240" y="8337240"/>
            <a:ext cx="2171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4914720" y="8331120"/>
            <a:ext cx="160020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D5B06-CE36-42C8-B6EA-B0E04DEB1BF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4"/>
          <p:cNvSpPr/>
          <p:nvPr/>
        </p:nvSpPr>
        <p:spPr>
          <a:xfrm>
            <a:off x="0" y="284760"/>
            <a:ext cx="357336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УВАЖАЕМЫЕ ЖИТЕЛИ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Красносельского района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260280" y="1476360"/>
            <a:ext cx="6264360" cy="78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с 01 апреля  по 30 апреля 2017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 нашем городе проводится месячник по уборке и благоустройству улиц,  и дворовых территорий после зимнего  период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Районная администрация совместно с  ГКУ «Жилищное Агентство» Красносельского района  приглашает трудовые коллективы, жителей принять активное участие в работах по наведению чистоты в своих дворах и на  территориях предприят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29 апреля 2017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остоится День благоустройства , в котором приглашаем принять участие всех желающих. Пусть этот день станет днем всеобщей заботы и любви к нашему Великому городу. В этот день будут организованы работы во дворах, парках и садах, на территориях предприятий, учреждений, учебных заведений. Любой желающий сможет принять  в них участ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Администрация Красносельского района                             Санкт-Петербургское государственное казенное учреждение «Жилищное агентство Красносельского район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30T08:31:55Z</dcterms:created>
  <dc:creator>Иванова Оля</dc:creator>
  <dc:description/>
  <dc:language>en-US</dc:language>
  <cp:lastModifiedBy>Fedotova</cp:lastModifiedBy>
  <cp:lastPrinted>2016-10-13T07:17:59Z</cp:lastPrinted>
  <dcterms:modified xsi:type="dcterms:W3CDTF">2017-04-18T08:53:26Z</dcterms:modified>
  <cp:revision>19</cp:revision>
  <dc:subject/>
  <dc:title>Слайд 1</dc:title>
</cp:coreProperties>
</file>